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9BF-E5B1-402E-846B-8273D303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1DC-FB9C-4CF0-B82C-9F9D229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235-F199-465C-945F-24B696AD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9D6-9455-4D74-B4B4-5D31699B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5FD-AA31-40EF-A672-BB21C82F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47D-A491-4318-A250-B05F6510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432-F0FA-4AD5-9430-E4DBA61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EFE-64B5-423A-9FC0-162E9752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541-F2A0-4478-8880-353FC791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930-A82D-4EE4-B847-48E908C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929-1B4F-4BB4-8310-D33C833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56E-0F7B-4258-92EF-AA63200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8D0D-9FE9-4B20-A50A-675D5027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 g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 stare at happ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glar.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320400">
            <a:off x="6009480" y="4406400"/>
            <a:ext cx="692280" cy="4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excite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Story.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people who settle or make a new home in a new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new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old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se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set.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00680" y="2933640"/>
            <a:ext cx="3303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unexplored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unknown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fron.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the first settlers in a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pi.on.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29120" y="533520"/>
            <a:ext cx="42148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a region or erea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1-20T23:01:25Z</dcterms:modified>
  <cp:revision>4</cp:revision>
  <dc:subject/>
  <dc:title>PowerPoint Presentation</dc:title>
</cp:coreProperties>
</file>